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69AF-7FF2-46CD-9D34-6AA852E9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697-8437-48F2-AEB0-E112F7A5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7656-CE73-42F2-AB21-7652E7F9F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62BA-A64A-459F-B8B2-8420BAB9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7BC0-3B30-4072-B379-67DE3F7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9C31-A25F-415F-AFB4-28CC19549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1426-D304-43F8-8D6A-47D7EF15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AB00-3D04-4BB8-A422-D0C50C01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5DB6-05DF-4D97-A06F-7702D26C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4D4D-6DFA-4342-B8E0-0180C81C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187-30B4-4C12-BA79-ED978D4C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E4CC-528D-4DBF-9141-D6DB2D36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0E5B-EF4F-4678-9AA2-918AACD584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Tahoma"/>
              </a:rPr>
              <a:t>M.O.R.E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Mak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Op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espon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as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700"/>
                            </p:stCondLst>
                            <p:childTnLst>
                              <p:par>
                                <p:cTn id="1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400"/>
                            </p:stCondLst>
                            <p:childTnLst>
                              <p:par>
                                <p:cTn id="1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700"/>
                            </p:stCondLst>
                            <p:childTnLst>
                              <p:par>
                                <p:cTn id="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700"/>
                            </p:stCondLst>
                            <p:childTnLst>
                              <p:par>
                                <p:cTn id="3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65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3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415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How ?</a:t>
            </a:r>
            <a:br>
              <a:rPr sz="5400"/>
            </a:b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Rea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Highligh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Organiz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1523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80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286000" y="5335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Rea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057400"/>
            <a:ext cx="769608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89208"/>
                </a:solidFill>
                <a:latin typeface="Tahoma"/>
              </a:rPr>
              <a:t>Don’t Freak Out 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d the introductio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FIR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ad one part at a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6" repeatCount="100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523880"/>
            <a:ext cx="76960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376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Read with your mind, not with your mouth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Thin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bout the wor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What do the words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mea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Highligh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ath Vocabul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ey Word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you know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900"/>
                            </p:stCondLst>
                            <p:childTnLst>
                              <p:par>
                                <p:cTn id="15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900"/>
                            </p:stCondLst>
                            <p:childTnLst>
                              <p:par>
                                <p:cTn id="16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99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Organiz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p-By-Step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e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swer in or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asy to rea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3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9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000"/>
                            </p:stCondLst>
                            <p:childTnLst>
                              <p:par>
                                <p:cTn id="20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9000"/>
                            </p:stCondLst>
                            <p:childTnLst>
                              <p:par>
                                <p:cTn id="207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3" nodeType="afterEffect" fill="hold" presetClass="entr" presetID="2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71600" y="609480"/>
            <a:ext cx="6172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Think 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90512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do you already know about the problem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971800"/>
            <a:ext cx="7543800" cy="44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this is an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the letter “x” represents a missing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the letter “x” is called a “Variabl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I need to solve for “x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I need to look on the reference sheet for something that may help me answer this ques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309840" y="457200"/>
            <a:ext cx="25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how 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752480"/>
            <a:ext cx="7696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 how you got your ans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ep-by-st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a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4572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Step-by-Step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ph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ves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t,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ph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shes,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rprisingly </a:t>
            </a: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286000"/>
            <a:ext cx="7315200" cy="44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D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ia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F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R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eplace with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C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alcu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S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ol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99"/>
                </a:solidFill>
                <a:uFillTx/>
                <a:latin typeface="Tahoma"/>
              </a:rPr>
              <a:t>L</a:t>
            </a:r>
            <a:r>
              <a:rPr b="0" lang="en-US" sz="2400" spc="-1" strike="noStrike">
                <a:solidFill>
                  <a:srgbClr val="ff9999"/>
                </a:solidFill>
                <a:latin typeface="Tahoma"/>
              </a:rPr>
              <a:t>ab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99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9:08:33Z</dcterms:created>
  <dc:creator>Barnstable Middle School</dc:creator>
  <dc:description/>
  <dc:language>en-US</dc:language>
  <cp:lastModifiedBy>Barnstable Middle School</cp:lastModifiedBy>
  <dcterms:modified xsi:type="dcterms:W3CDTF">2009-05-07T14:23:36Z</dcterms:modified>
  <cp:revision>12</cp:revision>
  <dc:subject/>
  <dc:title>Slide 1</dc:title>
</cp:coreProperties>
</file>